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ED62C-6D39-48CC-8223-04198058A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A22B9-1391-4FD9-9C04-0B534D37C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C00B4-BC66-4B9C-B842-667B55446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2B94B-EA42-4235-92E9-00C801F42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C9653-F636-4795-8703-EF15ECBDA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2FCBC-C637-4701-A3E2-63A80AD43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6AD1F-5F31-4C00-8495-6753DDC82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EB47E-F990-4CE0-A08B-4D5FEBABC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3DF68-1EFC-4E4C-BD4D-9E4911969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A8851-1325-4E98-B5D7-C185E24E1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C8531-E3DE-4732-B437-A6E77ADEC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D21A2-2651-498D-A6E5-FF5B5EE28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C1A14-D09A-46EE-BA7B-85408445F40E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44964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10656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34920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Vertic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Horizont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uble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965680 w 7197480"/>
              <a:gd name="textAreaRight" fmla="*/ 4231800 w 7197480"/>
              <a:gd name="textAreaTop" fmla="*/ 1482840 h 3598560"/>
              <a:gd name="textAreaBottom" fmla="*/ 21157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5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8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16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2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32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148920 h 35985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21:57Z</dcterms:created>
  <dc:creator>tb121644</dc:creator>
  <dc:description/>
  <dc:language>en-US</dc:language>
  <cp:lastModifiedBy>tb121644</cp:lastModifiedBy>
  <dcterms:modified xsi:type="dcterms:W3CDTF">2005-05-25T11:22:14Z</dcterms:modified>
  <cp:revision>1</cp:revision>
  <dc:subject/>
  <dc:title>Slide 1</dc:title>
</cp:coreProperties>
</file>